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6348-C01E-4F63-AD82-95035D965B23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0928-35F4-4C1C-A5AC-E8780AECB6C6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E6A4-A134-47EA-9428-B78BB463436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B4F-E545-42E5-BA8A-B8A469DB3F2D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CD0-D400-4E1A-BAE6-6A2038BAC507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ED4A-3736-47FD-BF51-193B444224F2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0E7-897B-4175-A02B-57A3F92B1318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155E-86B2-42AC-98F8-3066DA203BC2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47BC-31C8-4A8F-9340-64CCE6EEFAE8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8D6C-E5EE-48E8-97E8-94EB91C9E095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F5E7-106D-4639-BCE2-519BB2CE3052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8216-9A7E-4354-970D-D75E4D10252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2062-A15E-4E20-8803-7C4000B695B8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B711-4352-4967-9810-A9CAFDE3181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0E5C-7D2B-4D87-95B3-FC45CF273E0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A678-E55F-49CE-9385-83B675E89FC9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2A17-7389-497D-B156-3A1D417BEEB6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ED92-82FC-4576-84B8-33203C114DBB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AB11-A6C8-4D81-81CB-DCA9207C1E9E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1" marL="743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2" marL="1143000" indent="-228600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3" marL="1600200" indent="-228600" algn="ctr">
              <a:buClr>
                <a:srgbClr val="000000"/>
              </a:buClr>
              <a:buFont typeface="Gill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4" marL="2057400" indent="-228600" algn="ctr">
              <a:buClr>
                <a:srgbClr val="000000"/>
              </a:buClr>
              <a:buFont typeface="Gill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111480"/>
            <a:ext cx="13004640" cy="1549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Georgia"/>
              </a:rPr>
              <a:t>Reshaping Body Image</a:t>
            </a:r>
            <a:endParaRPr b="0" lang="en-US" sz="90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3" name="Line 2"/>
          <p:cNvSpPr/>
          <p:nvPr/>
        </p:nvSpPr>
        <p:spPr>
          <a:xfrm>
            <a:off x="723960" y="463536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4832280"/>
            <a:ext cx="127872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e4243"/>
                </a:solidFill>
                <a:latin typeface="Georgia"/>
                <a:ea typeface="Georgia"/>
              </a:rPr>
              <a:t>How are overweight and obese people </a:t>
            </a:r>
            <a:br>
              <a:rPr sz="4200"/>
            </a:br>
            <a:r>
              <a:rPr b="0" lang="en-US" sz="4200" spc="-1" strike="noStrike">
                <a:solidFill>
                  <a:srgbClr val="2e4243"/>
                </a:solidFill>
                <a:latin typeface="Georgia"/>
                <a:ea typeface="Georgia"/>
              </a:rPr>
              <a:t>treated in our society?</a:t>
            </a: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231920" y="395604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level of intelligence or succ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231920" y="5073480"/>
            <a:ext cx="11252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how attractive or unattractive each person is? What words did you us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82360" y="393696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882360" y="504180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231920" y="395604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level of intelligence or succ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231920" y="5073480"/>
            <a:ext cx="11252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how attractive or unattractive each person is? What words did you us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231920" y="6178680"/>
            <a:ext cx="111632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the body size or shape of each person? Which ones? What words did you use to describe their bodies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882360" y="393696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882360" y="504180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882360" y="614664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231920" y="395604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level of intelligence or succ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231920" y="5073480"/>
            <a:ext cx="11252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how attractive or unattractive each person is? What words did you us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31920" y="7816680"/>
            <a:ext cx="11188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e4243"/>
                </a:solidFill>
                <a:latin typeface="Georgia"/>
                <a:ea typeface="Georgia"/>
              </a:rPr>
              <a:t>Were your “first impressions” of the women different from your feelings about the men? How about the white people as compared to the people of color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31920" y="6178680"/>
            <a:ext cx="111632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the body size or shape of each person? Which ones? What words did you use to describe their bodies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882360" y="393696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882360" y="504180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882360" y="614664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882360" y="777240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now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30400" y="744228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2fef2"/>
                </a:solidFill>
                <a:latin typeface="Georgia"/>
                <a:ea typeface="Georgia"/>
              </a:rPr>
              <a:t>Lillian Russell</a:t>
            </a:r>
            <a:endParaRPr b="0" lang="en-US" sz="41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Actress and Sex symbol, </a:t>
            </a:r>
            <a:br>
              <a:rPr sz="3100"/>
            </a:b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early 20th century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n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6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985080" y="744228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2fef2"/>
                </a:solidFill>
                <a:latin typeface="Georgia"/>
                <a:ea typeface="Georgia"/>
              </a:rPr>
              <a:t>Nicole Kidman</a:t>
            </a:r>
            <a:endParaRPr b="0" lang="en-US" sz="41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Actress and Sex symbol, </a:t>
            </a:r>
            <a:br>
              <a:rPr sz="3100"/>
            </a:b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21st century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now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155600" y="7454880"/>
            <a:ext cx="487692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2fef2"/>
                </a:solidFill>
                <a:latin typeface="Georgia"/>
                <a:ea typeface="Georgia"/>
              </a:rPr>
              <a:t>Babe Ruth</a:t>
            </a:r>
            <a:endParaRPr b="0" lang="en-US" sz="41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Pro baseball player, </a:t>
            </a:r>
            <a:br>
              <a:rPr sz="3100"/>
            </a:b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early 20th century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n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7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6985080" y="745488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2fef2"/>
                </a:solidFill>
                <a:latin typeface="Georgia"/>
                <a:ea typeface="Georgia"/>
              </a:rPr>
              <a:t>Barry Bonds</a:t>
            </a:r>
            <a:endParaRPr b="0" lang="en-US" sz="41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Pro baseball player, </a:t>
            </a:r>
            <a:br>
              <a:rPr sz="3100"/>
            </a:b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21st century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now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30400" y="759456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King Henry VIII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16th century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n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9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985080" y="759456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President Bush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21st century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now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n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8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520" y="7594560"/>
            <a:ext cx="608328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fef2"/>
                </a:solidFill>
                <a:latin typeface="Georgia"/>
                <a:ea typeface="Georgia"/>
              </a:rPr>
              <a:t>Miss America contestant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1950s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985080" y="759456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Miss America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2002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re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30400" y="759456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American dancer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ballet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here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10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781680" y="7594560"/>
            <a:ext cx="52707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New Zeland dancers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performing Maori haka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6667560" y="368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re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30120" y="7531200"/>
            <a:ext cx="5867640" cy="1346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American 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Wrestlers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16000" y="368280"/>
            <a:ext cx="61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here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11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794640" y="7531200"/>
            <a:ext cx="584172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Japanese 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Sumo Wrestlers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0" y="7175520"/>
            <a:ext cx="13004640" cy="1549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2fef2"/>
                </a:solidFill>
                <a:latin typeface="Georgia"/>
                <a:ea typeface="Georgia"/>
              </a:rPr>
              <a:t>What are your first impressions?</a:t>
            </a:r>
            <a:endParaRPr b="0" lang="en-US" sz="60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1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2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3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4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5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98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231920" y="395604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level of intelligence or succ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882360" y="393696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ris, Erin</dc:creator>
  <dc:description/>
  <dc:language>en-US</dc:language>
  <cp:lastModifiedBy>Ferris, Erin</cp:lastModifiedBy>
  <dcterms:modified xsi:type="dcterms:W3CDTF">2012-04-02T15:22:05Z</dcterms:modified>
  <cp:revision>7</cp:revision>
  <dc:subject/>
  <dc:title>Reshaping Body Image</dc:title>
</cp:coreProperties>
</file>